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68A6-5E94-4D50-B318-0FC612C37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CCD1-03F3-443D-A941-8BC96AB9F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E02F-5026-408F-8AE7-6A0C9AC42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BB29-1516-41D0-A763-5A601EFF9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5452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2050-9ED0-447F-B420-2739D9746D7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A602-740D-4FD6-93B3-FFFB6FF7E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03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0881-65C0-4D73-9947-AA684C4DA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412-9032-489A-A7F3-1A4E051B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18A-DF3B-48E4-9E31-C3363B00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849-9DC8-4DBD-808A-AED7B015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F41-1885-4E4F-8D1D-EE7D239B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0D47-18EF-4B24-BF4C-6AF5D997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28FE-18A2-4681-A7FD-9FF5D3D7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D018-223D-4758-B0D5-5CD082B3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4F47-5DEA-4D6A-B7B9-998F5B35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AF63-DCFA-4558-9B33-1F81113B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8EA5-66BD-43AB-973D-F55664B7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C50F-30DB-4A61-801A-7EA2672B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30E-7F4F-4289-99B5-B1ECB3F1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C3A6-4EED-4045-BE2E-A606987C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F61B-F9BD-461C-AE23-4BC17823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957C-0622-42CB-86AF-09AD90B6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BCBB-ECBC-4C7C-99AA-A63552BE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FD77-C509-4FAD-9595-29444765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4D3-4411-4525-AABE-73035628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BE6-EB64-46D7-A48C-C7693D52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FB8-7C04-4D0A-A988-C24491E4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5DF-1507-4FAC-9D6D-54042845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03D-C2F1-4BE5-81D9-3E6B80C4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4BFE-75F7-4BC1-B0A7-CC202B1C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54A-94BB-4A90-83B2-71390ABB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24B9-E8D2-4D03-93B1-3098AEA2E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EVD PREPAREDNESS AND RESPONSE TRAINING 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dget, Logistics and Resource Mob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6017D17-8717-41B1-AEB1-3A3B3652A8E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EVD PREPAREDNESS AND RESPONSE TRAINING 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dget, Logistics and Resource Mob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9C6FA7E-D5EE-417A-9FCE-57DB9F4CF20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0" y="493560"/>
            <a:ext cx="914400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086520" y="3505320"/>
            <a:ext cx="275256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3"/>
          <a:srcRect l="28209" t="0" r="0" b="0"/>
          <a:stretch/>
        </p:blipFill>
        <p:spPr>
          <a:xfrm>
            <a:off x="0" y="1066680"/>
            <a:ext cx="9144000" cy="1409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4"/>
          <p:cNvSpPr/>
          <p:nvPr/>
        </p:nvSpPr>
        <p:spPr>
          <a:xfrm>
            <a:off x="0" y="0"/>
            <a:ext cx="9144000" cy="49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BAR_blue.png"/>
          <p:cNvPicPr/>
          <p:nvPr/>
        </p:nvPicPr>
        <p:blipFill>
          <a:blip r:embed="rId4"/>
          <a:stretch/>
        </p:blipFill>
        <p:spPr>
          <a:xfrm>
            <a:off x="0" y="205740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16EF-09D4-4DF5-A30C-9D7D9D78E0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-1600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58D3-6E62-41D1-93F2-A004A63511C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Verdana"/>
              </a:rPr>
              <a:t>Mobilização de Recursos, Orçamento e Logíst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mostra de Necessidades Orçamentais e Financei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003640" y="1700280"/>
          <a:ext cx="3251520" cy="5056200"/>
        </p:xfrm>
        <a:graphic>
          <a:graphicData uri="http://schemas.openxmlformats.org/drawingml/2006/table">
            <a:tbl>
              <a:tblPr/>
              <a:tblGrid>
                <a:gridCol w="3251520"/>
              </a:tblGrid>
              <a:tr h="76356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s voluntários da comun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 combustível (mota)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5224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 combustível (veículo)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ts val="1397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 condu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752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 gestor de dados do distrito nos distritos afect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s telefones e carrega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755640" y="1628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al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pidemiologista-che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upervisores no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Investig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Gestor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erito psicos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ondutor (se utiliz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1773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Equip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er anexo no diapositivo seguinte, mas considerar també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usto dos carregamentos dos telemó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mpressão de formul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nti-séptico para as mã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Transport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(para os supervisores no terreno, investigadores e equipa de investig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áxis (se utiliz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ombustível se forem utilizados veículos próp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mostra de Necessidades de Equipamento/Apo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mostra de lista de equipament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765000"/>
          <a:ext cx="8785440" cy="5872320"/>
        </p:xfrm>
        <a:graphic>
          <a:graphicData uri="http://schemas.openxmlformats.org/drawingml/2006/table">
            <a:tbl>
              <a:tblPr/>
              <a:tblGrid>
                <a:gridCol w="1970280"/>
                <a:gridCol w="1058760"/>
                <a:gridCol w="824040"/>
                <a:gridCol w="944280"/>
                <a:gridCol w="831960"/>
                <a:gridCol w="703440"/>
                <a:gridCol w="909360"/>
                <a:gridCol w="881280"/>
                <a:gridCol w="662040"/>
              </a:tblGrid>
              <a:tr h="20484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a de Identificação de Contac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equip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idemiologista-che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ervisor no Terr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Investig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Identific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or de D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Transpor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Desinfec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Enter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mento de Protecção Pesso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vas descartáve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ecção Facial (ou ócul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áscara Facial N95/FFP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áscara cirúrgica para o ca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cos de plástico para riscos biológ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8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nologia de Inform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ma de Posicionamento Mundi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óveis (com carregament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8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ramentas de Recolha de Dados Electrón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mento no Terr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mómet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riais de Escritó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ulários Apropri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tor/Car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31840" y="1249200"/>
            <a:ext cx="8881920" cy="4950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xemplo de um orçamento para a implementação e gestão da identificação de contactos num distrito afec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ontent Placeholder 2"/>
          <p:cNvSpPr/>
          <p:nvPr/>
        </p:nvSpPr>
        <p:spPr>
          <a:xfrm>
            <a:off x="395280" y="1557360"/>
            <a:ext cx="88614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necer uma compreensão ampla para a necessidade de uma disponibilidade sustentável de abastecimentos de emergência e apoio logístico às operações de alerta e resposta à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ilhar desafios logísticos práticos, incluindo os encontrados nos países com surtos cor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gerir possíveis soluções para os desafios identifi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Abastecimentos e 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07880" y="1196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bjectivos da s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necessidade de uma Função de Abastecimentos e Logística na resposta a emergê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dro de resposta a su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dro de Abastecimentos e 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incipais prioridades na resposta ao surto do É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oio a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safios de 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pções/propo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Resumo da Apresentaçã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1196640"/>
            <a:ext cx="885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bastecimento refere-se à quantidade total de um produto (bem ou serviço) disponível para aquisição a qualquer preço especific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ogística é o processo de planeamento, implementação e controlo de um fluxo de mercadorias e serviços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eficaz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eficient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do ponto de origem ao consum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ornecer uma logística eficaz para a criação e procura, o mais rápido possível, dos contributos necessários e assegurar o mais cedo possível os movimentos de peritos, doentes e abastecimentos para os pontos de uso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Z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000" y="123480"/>
            <a:ext cx="8856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necessidade de uma Função de Abastecimentos e 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Book Antiqua"/>
              </a:rPr>
              <a:t>Estrutura organizacional das diferentes comissões envolvidas nas actividades de controlo do surto do Éb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75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1800" y="115920"/>
            <a:ext cx="7602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Quadro de Resposta a Sur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68360" y="1230480"/>
            <a:ext cx="8206920" cy="4627080"/>
            <a:chOff x="468360" y="1230480"/>
            <a:chExt cx="8206920" cy="4627080"/>
          </a:xfrm>
        </p:grpSpPr>
        <p:sp>
          <p:nvSpPr>
            <p:cNvPr id="142" name="Rectangle 2"/>
            <p:cNvSpPr/>
            <p:nvPr/>
          </p:nvSpPr>
          <p:spPr>
            <a:xfrm>
              <a:off x="468360" y="4641120"/>
              <a:ext cx="8206920" cy="121644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Morbilidade e mortalidade reduzi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Resposta ao surto reforçada</a:t>
              </a: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"/>
            <p:cNvSpPr/>
            <p:nvPr/>
          </p:nvSpPr>
          <p:spPr>
            <a:xfrm>
              <a:off x="468360" y="1230480"/>
              <a:ext cx="3722760" cy="1706400"/>
            </a:xfrm>
            <a:prstGeom prst="rect">
              <a:avLst/>
            </a:prstGeom>
            <a:solidFill>
              <a:srgbClr val="0000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Equipas de Resposta Ráp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"/>
            <p:cNvSpPr/>
            <p:nvPr/>
          </p:nvSpPr>
          <p:spPr>
            <a:xfrm>
              <a:off x="4868280" y="1230480"/>
              <a:ext cx="3807000" cy="1706400"/>
            </a:xfrm>
            <a:prstGeom prst="rect">
              <a:avLst/>
            </a:prstGeom>
            <a:solidFill>
              <a:srgbClr val="0000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Logística e abastec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"/>
            <p:cNvSpPr/>
            <p:nvPr/>
          </p:nvSpPr>
          <p:spPr>
            <a:xfrm>
              <a:off x="468360" y="3202920"/>
              <a:ext cx="8206920" cy="1217520"/>
            </a:xfrm>
            <a:prstGeom prst="rect">
              <a:avLst/>
            </a:prstGeom>
            <a:solidFill>
              <a:srgbClr val="3366ff">
                <a:alpha val="75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Operações de respo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6"/>
            <p:cNvSpPr/>
            <p:nvPr/>
          </p:nvSpPr>
          <p:spPr>
            <a:xfrm rot="10800000">
              <a:off x="4444920" y="4201560"/>
              <a:ext cx="423360" cy="584280"/>
            </a:xfrm>
            <a:prstGeom prst="upArrow">
              <a:avLst>
                <a:gd name="adj1" fmla="val 50000"/>
                <a:gd name="adj2" fmla="val 4329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 rot="10800000">
              <a:off x="2117160" y="2820240"/>
              <a:ext cx="423360" cy="525600"/>
            </a:xfrm>
            <a:prstGeom prst="upArrow">
              <a:avLst>
                <a:gd name="adj1" fmla="val 50000"/>
                <a:gd name="adj2" fmla="val 4327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9"/>
            <p:cNvSpPr/>
            <p:nvPr/>
          </p:nvSpPr>
          <p:spPr>
            <a:xfrm rot="10800000">
              <a:off x="6559560" y="2778480"/>
              <a:ext cx="423360" cy="525600"/>
            </a:xfrm>
            <a:prstGeom prst="upArrow">
              <a:avLst>
                <a:gd name="adj1" fmla="val 50000"/>
                <a:gd name="adj2" fmla="val 4327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-360" y="790560"/>
            <a:ext cx="89917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Font typeface="Bookman Old Styl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4320" y="117000"/>
            <a:ext cx="760752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Quadro de Abastecimentos e Logístic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430200" y="936720"/>
            <a:ext cx="8713440" cy="4952520"/>
            <a:chOff x="430200" y="936720"/>
            <a:chExt cx="8713440" cy="4952520"/>
          </a:xfrm>
        </p:grpSpPr>
        <p:sp>
          <p:nvSpPr>
            <p:cNvPr id="152" name="Rectangle 5"/>
            <p:cNvSpPr/>
            <p:nvPr/>
          </p:nvSpPr>
          <p:spPr>
            <a:xfrm>
              <a:off x="430200" y="2499840"/>
              <a:ext cx="3333960" cy="14068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Transporte, segurança e bem-estar do pessoal</a:t>
              </a: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430200" y="936720"/>
              <a:ext cx="3333960" cy="13287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3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Abastecimentos para o alerta e respost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430200" y="4298400"/>
              <a:ext cx="3333960" cy="15908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Apoio à logística no terren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8"/>
            <p:cNvSpPr/>
            <p:nvPr/>
          </p:nvSpPr>
          <p:spPr>
            <a:xfrm>
              <a:off x="4521600" y="936720"/>
              <a:ext cx="4622040" cy="1191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8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Abastecimentos de laboratório, medicamentos, kits de emergência, meios de transporte, materiais de escritóri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>
              <a:off x="4521600" y="2499840"/>
              <a:ext cx="4622040" cy="13291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Gestão de veícul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Telecomunicações</a:t>
              </a: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Alojamento/bem-esta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4521600" y="4141800"/>
              <a:ext cx="4622040" cy="17474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Avaliação no terreno</a:t>
              </a: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Supervisão do movimento de abastecimentos</a:t>
              </a: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Avaliação de impacto</a:t>
              </a: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3764160" y="1483920"/>
              <a:ext cx="757440" cy="390600"/>
            </a:xfrm>
            <a:prstGeom prst="rightArrow">
              <a:avLst>
                <a:gd name="adj1" fmla="val 50000"/>
                <a:gd name="adj2" fmla="val 53327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2"/>
            <p:cNvSpPr/>
            <p:nvPr/>
          </p:nvSpPr>
          <p:spPr>
            <a:xfrm>
              <a:off x="3764160" y="2968920"/>
              <a:ext cx="757440" cy="390960"/>
            </a:xfrm>
            <a:prstGeom prst="rightArrow">
              <a:avLst>
                <a:gd name="adj1" fmla="val 50000"/>
                <a:gd name="adj2" fmla="val 48435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3"/>
            <p:cNvSpPr/>
            <p:nvPr/>
          </p:nvSpPr>
          <p:spPr>
            <a:xfrm>
              <a:off x="3764160" y="4767480"/>
              <a:ext cx="757440" cy="326880"/>
            </a:xfrm>
            <a:prstGeom prst="rightArrow">
              <a:avLst>
                <a:gd name="adj1" fmla="val 50000"/>
                <a:gd name="adj2" fmla="val 60644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1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101520">
            <a:solidFill>
              <a:srgbClr val="651d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bjectiv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213336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 bem sucedida das operações, prevenção e controlo da epidemia através da mobilização de recursos por parte do Grupo de Acção/Comissão Nacional do Ébol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Principais prioridades na resposta ao surto do Ébol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60400" y="17586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Fornecimento de apoio às operações no terr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49040" y="1620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D:\PICTURES\EBOLA DRC 2007\receiving and dispatching ppe.jpg"/>
          <p:cNvPicPr/>
          <p:nvPr/>
        </p:nvPicPr>
        <p:blipFill>
          <a:blip r:embed="rId1"/>
          <a:stretch/>
        </p:blipFill>
        <p:spPr>
          <a:xfrm>
            <a:off x="133200" y="2562120"/>
            <a:ext cx="4040280" cy="303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L1040346 (Small)"/>
          <p:cNvPicPr/>
          <p:nvPr/>
        </p:nvPicPr>
        <p:blipFill>
          <a:blip r:embed="rId2"/>
          <a:stretch/>
        </p:blipFill>
        <p:spPr>
          <a:xfrm>
            <a:off x="4305240" y="2954160"/>
            <a:ext cx="434988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63080" y="1271160"/>
            <a:ext cx="8828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eservas adequadas de materiais necessários às investigações epidemiológicas a nível subnacional e nacio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Kits de EPP, módulos A e B do catálogo da 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Produtos de desinfecção e outros materiais para se colocar em prática as medidas básicas de combate à infec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Kits de recolha de amostras e materiais de transp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Reagentes laborator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Equipamento médico e medicam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Fonte fiável de reabastecimento de materia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Gestão e sistema de distribuição de reservas eficaz a todos os níve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Procedimentos de alfândega simplificados para uma rápida autorização de import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30320" y="1196640"/>
            <a:ext cx="901368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riação de escritórios funcionais para actividades do pessoal e reuniões das comissõ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Sustentabilidade das operações, por exemplo, pequenas aquisições, pagamento de subsídios diários e aliment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Equipamento de escritório (computadores, impressoras, fotocopiadoras)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Fornecer meios de comunicação – telemóveis, etc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Reabastecimento dos produtos necessários / encomendar recursos a temp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6200" y="223560"/>
            <a:ext cx="82296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ansporte para as equipas de proxim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Users\chindedzak\Desktop\Ebola July 2014 documents_YZ\SLE EBOLA RESPONSE PHOTO LIBRARY\4   WHO mobile laboratory equipment being loaded to support ebola case confirmation in Kailahun District in eastern Sierra Leone.jpg"/>
          <p:cNvPicPr/>
          <p:nvPr/>
        </p:nvPicPr>
        <p:blipFill>
          <a:blip r:embed="rId1"/>
          <a:stretch/>
        </p:blipFill>
        <p:spPr>
          <a:xfrm>
            <a:off x="-41400" y="1557360"/>
            <a:ext cx="4537080" cy="410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chindedzak\Desktop\Ebola July 2014 documents_YZ\SLE EBOLA RESPONSE PHOTO LIBRARY\5   A team of WHO laboratory sciientists crossing from Guinea into Sierra Leone to set up a mobile lab in Kailahun District to test Ebola cases.jpg"/>
          <p:cNvPicPr/>
          <p:nvPr/>
        </p:nvPicPr>
        <p:blipFill>
          <a:blip r:embed="rId2"/>
          <a:stretch/>
        </p:blipFill>
        <p:spPr>
          <a:xfrm>
            <a:off x="4648320" y="1628640"/>
            <a:ext cx="4495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63080" y="1197000"/>
            <a:ext cx="8812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Transporte e movimentação de pess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Gestão de veículos e meios de transporte para as necessidades das actividades de controlo das equipas (vigilância, mobilização social, funerai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ordenação dos movimentos das equipas móveis (vigilância, mobilização social, funerai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Elaboração e aplicação de mapas de serviço regulares para o pessoal nacional e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ordenação e facilitação de deslocações para o pessoal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0600" y="274320"/>
            <a:ext cx="8454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-360" y="1125360"/>
            <a:ext cx="90248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poio para os programas e abastec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o abastecimento e transporte do EPP (batas, máscaras, óculos, botas e outro equipamento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o abastecimento de equipamento de desinfecção às equipas de controlo da infecção e ao pessoal responsável pelos funerais segu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Facilitar a gestão de resíduos biomédicos e das áreas de isolamento em coordenação com a subcomissão para a gestão dos ca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08000" y="1197000"/>
            <a:ext cx="885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dministração, segurança e protec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Dependendo das circunstâncias, atender às necessidades alimentares dos doentes e das equipas de interven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a segurança dos espaços e a participação do pessoal nas actividades de control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municar as instruções de segurança ao pessoal antes que estes cheguem ao terre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Sempre que necessário, formar o pessoal sobre as bases da logístic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706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5840" y="1125000"/>
            <a:ext cx="892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Financiamento inadequado para os abastecimentos e logística necessári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Coordenação e colaboração do apoio dos parceiros, incluindo recurs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Previsão e aquisição de quantidades óptimas de abastecimentos e logística devido à elevada procura actu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Isolamento dos países com surtos de EVD por parte de algumas empresas está a afectar a disponibilidade de abasteciment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Diferentes conceitos, qualidade e padrões de EPP para a EV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Desafios da Logístic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78920" y="981000"/>
            <a:ext cx="8877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Escassez de especialistas em logística com formação adequa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otação elevada de pessoal devido ao medo, pânico e exaust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Distribuição tardia das equipas operacionais em novas frentes do sur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mbiente sociopolít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Transporte e instalações de comunicação pouco adequad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Escassez de pessoal para as equipas de enterros, especialmente devido a compensações pouco adequadas para o risco e estigma associad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cesso a algumas áreas não é fáci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Desafios (cont…..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339920"/>
            <a:ext cx="8686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alçar o papel da comissão de coordenação acerca d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screver a composição e termos de referência da comissão de coorden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finir as actividades da comissão de coordenação a nível do distrito (lo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para o Grupo de Acção/Comissão Nacional do Ébol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08000" y="1197000"/>
            <a:ext cx="885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São propostas as seguintes medidas tendo em conta as considerações específicas ao país e comunida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Compromisso da liderança política e social e dos parceiros em criar um ambiente propício à mobilização de recurs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ssegurar e monitorizar a segurança das equipas no terreno e do equipamento sempre que adequ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eforçar a capacidade logística nacional (cadeia de abastecimento nacional, formações), assegurar o compromisso dos parceiros com base nas suas vantagens comparativ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Possíveis soluçõ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logística deve ser o primeiro componente a ser devidamente abordado na preparação para qualquer emergência, incluindo surtos de EV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533520" y="1143000"/>
            <a:ext cx="81532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rcerias n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164040" y="6213600"/>
            <a:ext cx="3525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7010280" y="2441520"/>
            <a:ext cx="1376640" cy="181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1878120" y="2676600"/>
            <a:ext cx="2573280" cy="1299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4856040" y="2676600"/>
            <a:ext cx="1868760" cy="1452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4"/>
          <a:stretch/>
        </p:blipFill>
        <p:spPr>
          <a:xfrm>
            <a:off x="466560" y="2514600"/>
            <a:ext cx="1256040" cy="20685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2700360" y="4129200"/>
            <a:ext cx="16765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Arial"/>
              </a:rPr>
              <a:t>MS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5396040" y="4721400"/>
            <a:ext cx="2655720" cy="947160"/>
          </a:xfrm>
          <a:prstGeom prst="rect">
            <a:avLst/>
          </a:prstGeom>
          <a:solidFill>
            <a:srgbClr val="f1f9f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70c0"/>
                </a:solidFill>
                <a:latin typeface="Arial"/>
              </a:rPr>
              <a:t>Instituto </a:t>
            </a: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609480" y="4648320"/>
            <a:ext cx="167652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Arial"/>
              </a:rPr>
              <a:t>IF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D:\userprofiles\gaturukup\My Documents\Old HDD documents 14 March 2012\Desktop Documents\WHO LOGO NEW\WHO-AFRO-EN-C.jpg"/>
          <p:cNvPicPr/>
          <p:nvPr/>
        </p:nvPicPr>
        <p:blipFill>
          <a:blip r:embed="rId5"/>
          <a:stretch/>
        </p:blipFill>
        <p:spPr>
          <a:xfrm>
            <a:off x="2471760" y="5172120"/>
            <a:ext cx="22827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provar as estratégias de controlo da epidemia recomendadas pela 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senvolver um plano de acção detalhado para a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as responsabilidades das diferente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Organizar a mobilização de recursos em colaboração com os parcei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os canais de informação durante as operações de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unicar regularmente com a imprensa nacional e interna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 nível local, com a ajuda de parceiros internacionais, criar uma comissão técnica e científica internacional para coordenar as medidas de controlo da epidemia que será responsável pela organização das actividades diárias da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1"/>
          <p:cNvSpPr/>
          <p:nvPr/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reuniões de coordenação e monitorizar as op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a coordenação com os serviços responsáveis pela saúde animal na vida selv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ques 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rviços veterin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segurar uma rotação regular d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F:\Ebola July 2014 documents_YZ\SLE EBOLA RESPONSE PHOTO LIBRARY\7   Sierra Leone Ebola_Photo credit_WHO Saffea Gborie.jpg"/>
          <p:cNvPicPr/>
          <p:nvPr/>
        </p:nvPicPr>
        <p:blipFill>
          <a:blip r:embed="rId1"/>
          <a:stretch/>
        </p:blipFill>
        <p:spPr>
          <a:xfrm>
            <a:off x="4444920" y="2073240"/>
            <a:ext cx="4407120" cy="2940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Evitar a aplicação de medidas restritivas, de acordo com o RSI (200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o fim do relatóri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o, Administrativo, Financeiro e Log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o impacto económico e social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a gestã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Com base nas experiências adquiridas, fazer recomendações para a prevenção e gestão de futuras epidemi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640" y="-10044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issão de Coordenação Nacional (Grupo de Acção Nacional): Composi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liderança nacional é da máxima importância e a composição pode variar de país para país, mas é essencialm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scritório do President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érios da Saúde, Finanças, Agricultura, Veterinário, Serviços Sociais, Educação e Defesa, etc.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rceiros internacionais e locais: por exemplo, OMS, MSF, CDC, UNICEF, USAID, FAO, IEO, Cruz Vermelha/Crescente Vermelho, IFRC, etc.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upos de interesses especiais: indústrias extractivas (mineira, petrolífera, madeira), turismo, companhias aéreas, etc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ontent Placeholder 2"/>
          <p:cNvSpPr/>
          <p:nvPr/>
        </p:nvSpPr>
        <p:spPr>
          <a:xfrm>
            <a:off x="539640" y="1268280"/>
            <a:ext cx="83743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finir o orçamento operacional para as actividades (comunicação, vigilância reforçada, investigação, etc.), para a detecção pré-epidémica e para a resposta preliminar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dentificar as fontes de financiamento, incluindo a alocação de recursos domésticos e criação e conhecimento de mecanismos para obter recursos adicionais sempre que necessário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senvolver modelos para a mobilização de recursos e para a notificação dos países e dos doadores, incluindo mecanismos para monitorizar e seguir a implementação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stabelecer fundos de contingência facilmente acessíveis para uma resposta imediata a um surto de EVD a nível nacional e noutros locais apropriados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dentificar o processo de transferência de dinheiro do nível central para uma utilização de emergência loca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User</cp:lastModifiedBy>
  <cp:lastPrinted>2013-10-01T07:19:12Z</cp:lastPrinted>
  <dcterms:modified xsi:type="dcterms:W3CDTF">2014-11-29T16:30:50Z</dcterms:modified>
  <cp:revision>198</cp:revision>
  <dc:subject/>
  <dc:title>DPC Training and Technical Update</dc:title>
</cp:coreProperties>
</file>